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0DD4-B329-4E28-9A42-1E44514B698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5198-F92B-41D9-A5E8-329E6A3FDEB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FF46-2B12-42A3-8CB2-F62CBC72A67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5017-A1CE-400A-AC38-958EB7A1AE3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CD4D-9880-403C-9FB5-D325F6579FF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597C-967B-4DB6-82F9-4BC54890272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BCDF-E400-47C1-B46F-F3B90B9323C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988B-A4BB-4B7C-9ADE-6E32C3739C2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398-AE40-4955-819E-4BD57C0A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EF5-BA54-4C62-9352-2D895B06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209-BD6A-4C07-AFDD-8EB17747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DD7-005B-476A-870F-75C7D61D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0AF3-7364-49EE-851E-D0DAF1B9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13B0-F3CA-4EFB-A64A-D85624C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7437-FC6D-413B-BA78-3601E987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47F3-1FF9-4A38-85B2-BCFA84B0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5CB6-78C1-4ACC-A7D8-72F37700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40D5-5BEF-43F3-8FC0-A97B5858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8D71-58E8-4099-B3ED-90984169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B28-0AB7-44DC-A411-EA74E880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FF86-1BAC-4098-B850-FAEE716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A52D-4315-43CF-B189-C338A895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7C30-6AB0-4F61-954F-5B739459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9772-F0BE-4699-A87B-335C0D0D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4670-44D6-4F4D-8031-2B5F57DB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0BD-510F-42C3-8452-589AF520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92C-596E-43D0-95C6-66130641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781-5B97-4E02-BEAE-F252BF90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50C-2903-4063-A6A2-3A46ABBC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92A-C2E4-449F-987B-46A9182B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1F2-89BC-44C3-BDB8-824820D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268-9E43-4C46-80A8-00D8C20D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0ABB-CF51-48BB-943D-ADBE1B90F69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1E5E-67DA-48AD-89F9-04B146D474AF}" type="slidenum">
              <a:rPr b="0" lang="zh-TW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outube.com/watch?v=uK5ija2gVbY&amp;feature=player_embedde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1628640"/>
            <a:ext cx="5328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eds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: EDUC 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: Po-Yien 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or: Dr. Kevin Pya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Newton-Virus-Object"/>
          <p:cNvPicPr/>
          <p:nvPr/>
        </p:nvPicPr>
        <p:blipFill>
          <a:blip r:embed="rId1"/>
          <a:srcRect l="19299" t="10657" r="20236" b="14414"/>
          <a:stretch/>
        </p:blipFill>
        <p:spPr>
          <a:xfrm>
            <a:off x="6588000" y="2492280"/>
            <a:ext cx="2148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-Finding-Problem Solving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7" descr="computer%20virus"/>
          <p:cNvPicPr/>
          <p:nvPr/>
        </p:nvPicPr>
        <p:blipFill>
          <a:blip r:embed="rId1"/>
          <a:stretch/>
        </p:blipFill>
        <p:spPr>
          <a:xfrm>
            <a:off x="6659640" y="4005360"/>
            <a:ext cx="2038320" cy="2681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1258920" y="270828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182600" y="201780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116000" y="206064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332000" y="2276640"/>
            <a:ext cx="546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odel will be used for Taiwanese college students to avoid computer viruses during their college and professional car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ent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4" descr="header_virus"/>
          <p:cNvPicPr/>
          <p:nvPr/>
        </p:nvPicPr>
        <p:blipFill>
          <a:blip r:embed="rId1"/>
          <a:srcRect l="7057" t="5575" r="0" b="30604"/>
          <a:stretch/>
        </p:blipFill>
        <p:spPr>
          <a:xfrm>
            <a:off x="4859280" y="5013360"/>
            <a:ext cx="4284720" cy="1655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1116000" y="206064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udents may have a missing or non-information of computer viru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新細明體"/>
              </a:rPr>
              <a:t>E.g. Students may think antivirus is prefect of clearing computer viru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新細明體"/>
              </a:rPr>
              <a:t>Students may not have any knowledge of computer viru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computer viruses infect other computers, people should learn how to protect our computers to take a response for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ist2_4790932-attack-of-virus-on-the-computer"/>
          <p:cNvPicPr/>
          <p:nvPr/>
        </p:nvPicPr>
        <p:blipFill>
          <a:blip r:embed="rId1"/>
          <a:stretch/>
        </p:blipFill>
        <p:spPr>
          <a:xfrm>
            <a:off x="6694560" y="4221000"/>
            <a:ext cx="2224080" cy="2435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1182600" y="201780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xample of computer vir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 virus emails frequ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gerous or fake web side around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Instructional Interven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Picture 4" descr="funny_computer_virus_in_jail"/>
          <p:cNvPicPr/>
          <p:nvPr/>
        </p:nvPicPr>
        <p:blipFill>
          <a:blip r:embed="rId1"/>
          <a:stretch/>
        </p:blipFill>
        <p:spPr>
          <a:xfrm>
            <a:off x="6516720" y="4230720"/>
            <a:ext cx="2627280" cy="26272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1182600" y="201780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398600" y="2233440"/>
            <a:ext cx="546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technologic information is necessary for lear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E.g. IP address, windows OS, internet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oos in other count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2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iwanese teaching style is different than in Ameri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60960" indent="-305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ctivities, discussion, and interaction are not common teaching style in Taiw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60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test evaluation is difficult in        Taiwanes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60960" indent="-305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iwanese uses test-depending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60960" indent="-305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students by number is clear and                common in Taiw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computer virus2"/>
          <p:cNvPicPr/>
          <p:nvPr/>
        </p:nvPicPr>
        <p:blipFill>
          <a:blip r:embed="rId1"/>
          <a:stretch/>
        </p:blipFill>
        <p:spPr>
          <a:xfrm>
            <a:off x="6815160" y="5000760"/>
            <a:ext cx="215568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4" descr="no-fee"/>
          <p:cNvPicPr/>
          <p:nvPr/>
        </p:nvPicPr>
        <p:blipFill>
          <a:blip r:embed="rId1"/>
          <a:stretch/>
        </p:blipFill>
        <p:spPr>
          <a:xfrm>
            <a:off x="6477120" y="4643280"/>
            <a:ext cx="2457360" cy="1987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1182600" y="201780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398600" y="2233440"/>
            <a:ext cx="546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ould teachers solve the cultural teaching conflic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tudents are not familiar with technologic staffs, how to encourage students in clas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3:54:47Z</dcterms:created>
  <dc:creator>Chen Po-Yien</dc:creator>
  <dc:description/>
  <dc:language>en-US</dc:language>
  <cp:lastModifiedBy>GACL User</cp:lastModifiedBy>
  <dcterms:modified xsi:type="dcterms:W3CDTF">2010-04-30T01:20:25Z</dcterms:modified>
  <cp:revision>147</cp:revision>
  <dc:subject/>
  <dc:title>PowerPoint Presentation</dc:title>
</cp:coreProperties>
</file>